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C339-013E-42E0-8541-6FD99DEE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4BDB-0BB7-49C0-A238-71B0CF71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4BE5-A841-4F13-A894-30F554790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6C69-3E0D-4042-A4BD-5EF50BFD5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FB7D-05E4-4C7C-9C4B-FC5FBBE9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F85F-5306-4FAA-801E-2130072F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913F-1A61-401D-BA97-8D2A1624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13BF-838C-4158-8D77-9C0C1C7F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CC33-EF87-4F03-80D9-5CE37DBD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CED9-A68E-494A-B761-F5DDAAEE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5CA8-ED13-4097-ACDD-0D052567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F881-7FD1-4451-8E4A-0AD8F2D2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2B9C-519A-404D-9BDF-6507FBC8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753F-8F7D-419A-A6E9-9F70F9F0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3F31-FD29-4A1A-A622-6811F562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43CF-4F74-4A96-9697-A158AA131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B586-0A86-4B34-B679-D2E1C1BD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82EDC-38A3-459A-A540-E4D87B9BD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9B76B-0811-4C38-BB08-0E459BA9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C04B9-85EB-4CC0-AFFA-98A79BC3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2C04E-CAAA-4CF5-BAEA-86BA0B21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A713B-54C3-4A7A-A94F-1FA1A4D7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E67A-EDF1-4E3A-8B00-E9BCAB84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B008B-3698-4CC8-9A75-4C0BBDE3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A45AE-0768-46CC-83FF-B44D35DC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E5E30-9585-48DF-B520-1C515298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AED4B-647E-4A25-88B3-29532290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149AF-38BB-4C56-99C3-A08F1EE9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ABB80-D98B-4CF1-A607-B6A65A16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DFE66-B56D-4959-8F73-05E5AECA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5E787-AA5E-4F7A-ACE8-933859356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DD2A9-1DFA-4AC2-86C0-5E233607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6C17F-7503-4713-8E8B-9858BB18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26FA-6088-4060-9298-2D729710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58A97-F53A-4427-A9A5-28DF320A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6CE73-6FE1-4C9B-8ABE-FE0F6A00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E5432-855C-46D7-B2BC-7CB5FBC3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7C340-CDFA-47EA-BE8C-5EFD7302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F70FB-30A1-483E-87BC-A29D318A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2B863-D425-4878-998E-22F8D5F2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85AE3-CE24-410F-9794-DB78D4AC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4B162-2A7D-4059-997B-DA0A8408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42BF3-6C75-420C-8F43-B54364DC9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BBFB-DE46-48CE-B51A-69BBE576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C009-810D-4862-99C9-EDD2CF4A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56AB-E49A-4138-A807-6BB53C8B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C617-D941-475A-897A-12DC7762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27FD-F6F3-4395-B979-FD0677B1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7190-5A56-46D3-B508-806C6769331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2E65-5BEE-4B2D-9757-EE151C89931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E97B-E84A-403A-BEFC-9C0950A4C9A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AA5C-C711-4536-9794-5B5E06849B4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73392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ceff"/>
                </a:solidFill>
                <a:latin typeface="Constantia"/>
              </a:rPr>
              <a:t>Week 1 Lab2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Dina A. Sai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dasaid@ucalgary.c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8" name="Content Placeholder 6" descr="custom8.gif"/>
          <p:cNvPicPr/>
          <p:nvPr/>
        </p:nvPicPr>
        <p:blipFill>
          <a:blip r:embed="rId1"/>
          <a:stretch/>
        </p:blipFill>
        <p:spPr>
          <a:xfrm>
            <a:off x="685800" y="2133720"/>
            <a:ext cx="7315200" cy="3657600"/>
          </a:xfrm>
          <a:prstGeom prst="rect">
            <a:avLst/>
          </a:prstGeom>
          <a:ln w="0">
            <a:noFill/>
          </a:ln>
        </p:spPr>
      </p:pic>
      <p:sp>
        <p:nvSpPr>
          <p:cNvPr id="23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5E82-D16C-40B5-BBEF-A4C5EF4372F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2520-2922-4303-A5AE-FD7B3939D16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TextBox 8"/>
          <p:cNvSpPr/>
          <p:nvPr/>
        </p:nvSpPr>
        <p:spPr>
          <a:xfrm>
            <a:off x="533520" y="1447920"/>
            <a:ext cx="81532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5395"/>
                </a:solidFill>
                <a:latin typeface="Constantia"/>
              </a:rPr>
              <a:t>Now, calculate the average of each subject :</a:t>
            </a:r>
            <a:br>
              <a:rPr sz="4000"/>
            </a:br>
            <a:r>
              <a:rPr b="0" lang="en-US" sz="4000" spc="-1" strike="noStrike">
                <a:solidFill>
                  <a:srgbClr val="0b5395"/>
                </a:solidFill>
                <a:latin typeface="Constantia"/>
              </a:rPr>
              <a:t>	</a:t>
            </a:r>
            <a:r>
              <a:rPr b="0" lang="en-US" sz="4000" spc="-1" strike="noStrike">
                <a:solidFill>
                  <a:srgbClr val="0b5395"/>
                </a:solidFill>
                <a:latin typeface="Constantia"/>
              </a:rPr>
              <a:t>* Using AVERGAE implied    </a:t>
            </a:r>
            <a:br>
              <a:rPr sz="4000"/>
            </a:br>
            <a:r>
              <a:rPr b="0" lang="en-US" sz="4000" spc="-1" strike="noStrike">
                <a:solidFill>
                  <a:srgbClr val="0b5395"/>
                </a:solidFill>
                <a:latin typeface="Constantia"/>
              </a:rPr>
              <a:t>	</a:t>
            </a:r>
            <a:r>
              <a:rPr b="0" lang="en-US" sz="4000" spc="-1" strike="noStrike">
                <a:solidFill>
                  <a:srgbClr val="0b5395"/>
                </a:solidFill>
                <a:latin typeface="Constantia"/>
              </a:rPr>
              <a:t>   functi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5395"/>
                </a:solidFill>
                <a:latin typeface="Constantia"/>
              </a:rPr>
              <a:t>	</a:t>
            </a:r>
            <a:r>
              <a:rPr b="0" lang="en-US" sz="4000" spc="-1" strike="noStrike">
                <a:solidFill>
                  <a:srgbClr val="0b5395"/>
                </a:solidFill>
                <a:latin typeface="Constantia"/>
              </a:rPr>
              <a:t>* Using custom calculations     </a:t>
            </a:r>
            <a:br>
              <a:rPr sz="4000"/>
            </a:br>
            <a:r>
              <a:rPr b="0" lang="en-US" sz="4000" spc="-1" strike="noStrike">
                <a:solidFill>
                  <a:srgbClr val="0b5395"/>
                </a:solidFill>
                <a:latin typeface="Constantia"/>
              </a:rPr>
              <a:t>           (sum/count)</a:t>
            </a:r>
            <a:br>
              <a:rPr sz="4000"/>
            </a:br>
            <a:r>
              <a:rPr b="0" lang="en-US" sz="4000" spc="-1" strike="noStrike">
                <a:solidFill>
                  <a:srgbClr val="0b5395"/>
                </a:solidFill>
                <a:latin typeface="Constantia"/>
              </a:rPr>
              <a:t>	</a:t>
            </a:r>
            <a:r>
              <a:rPr b="0" lang="en-US" sz="4000" spc="-1" strike="noStrike">
                <a:solidFill>
                  <a:srgbClr val="0b5395"/>
                </a:solidFill>
                <a:latin typeface="Constantia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7320-5C83-4334-9368-38701FDA83C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Picture 5" descr="custon9.gif"/>
          <p:cNvPicPr/>
          <p:nvPr/>
        </p:nvPicPr>
        <p:blipFill>
          <a:blip r:embed="rId1"/>
          <a:stretch/>
        </p:blipFill>
        <p:spPr>
          <a:xfrm>
            <a:off x="457200" y="175248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D4B4-F5AD-461E-B271-425B1968771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5" descr="custom10.gif"/>
          <p:cNvPicPr/>
          <p:nvPr/>
        </p:nvPicPr>
        <p:blipFill>
          <a:blip r:embed="rId1"/>
          <a:stretch/>
        </p:blipFill>
        <p:spPr>
          <a:xfrm>
            <a:off x="838080" y="198108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rder of Calcul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cation, Divi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, Subtra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+3*5 = 2+ (3*5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/3+5= (2/3)+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brackets if you are confus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9CE9-9027-4767-829F-6A0FD0BC270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f-Then Stat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part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al te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e  stat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se statement (option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If Mary’s Mark in subject1 &gt; 6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Then, She pass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Else, She fail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453E-0E53-4A4C-83A9-18ACF28945E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ormul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IF(&lt;logical statement&gt;, &lt;true statement&gt;, &lt;false statement&gt;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IF(B4&gt;60,"pass","fail"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If your result is string or you are testing string, you should use “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473D-FF3C-4C35-BC0A-2AFFE67C508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2" name="Content Placeholder 6" descr="If1.gif"/>
          <p:cNvPicPr/>
          <p:nvPr/>
        </p:nvPicPr>
        <p:blipFill>
          <a:blip r:embed="rId1"/>
          <a:stretch/>
        </p:blipFill>
        <p:spPr>
          <a:xfrm>
            <a:off x="762120" y="1828800"/>
            <a:ext cx="7315200" cy="2743200"/>
          </a:xfrm>
          <a:prstGeom prst="rect">
            <a:avLst/>
          </a:prstGeom>
          <a:ln w="0">
            <a:noFill/>
          </a:ln>
        </p:spPr>
      </p:pic>
      <p:sp>
        <p:nvSpPr>
          <p:cNvPr id="27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6478-8C9D-49AE-A615-22DC98F9881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7" name="Content Placeholder 6" descr="If2.gif"/>
          <p:cNvPicPr/>
          <p:nvPr/>
        </p:nvPicPr>
        <p:blipFill>
          <a:blip r:embed="rId1"/>
          <a:stretch/>
        </p:blipFill>
        <p:spPr>
          <a:xfrm>
            <a:off x="1066680" y="2438280"/>
            <a:ext cx="7315200" cy="2743200"/>
          </a:xfrm>
          <a:prstGeom prst="rect">
            <a:avLst/>
          </a:prstGeom>
          <a:ln w="0">
            <a:noFill/>
          </a:ln>
        </p:spPr>
      </p:pic>
      <p:sp>
        <p:nvSpPr>
          <p:cNvPr id="27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393B-8F65-4562-80BF-02FB1E40451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533520" y="685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k how to make if statement for subject 2 using Insert Fun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6137-9907-46F6-AB37-526209DC995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5" name="Picture 8" descr="If3.gif"/>
          <p:cNvPicPr/>
          <p:nvPr/>
        </p:nvPicPr>
        <p:blipFill>
          <a:blip r:embed="rId1"/>
          <a:stretch/>
        </p:blipFill>
        <p:spPr>
          <a:xfrm>
            <a:off x="762120" y="1828800"/>
            <a:ext cx="71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to be covered toda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k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 calcul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tat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vot t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up t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3D79-61EB-42BD-96AE-B4069CDDD35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609480" y="990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best way to apply the function for subject 3 as well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we want the test to b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than or equa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D664-8425-400A-B990-4FB7CD18522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ested If Stat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ubject1 &gt;= 9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, 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If subject2 &gt;=7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, B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C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IF(B4&gt;=90,"A", IF(B4&gt;=70,"B", “C")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6D74-D3E2-4CCF-9F21-B771DBD2CD6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231E-E5D0-4635-AACF-D56CD2FAC52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9" name="Content Placeholder 8" descr="If4.gif"/>
          <p:cNvPicPr/>
          <p:nvPr/>
        </p:nvPicPr>
        <p:blipFill>
          <a:blip r:embed="rId1"/>
          <a:stretch/>
        </p:blipFill>
        <p:spPr>
          <a:xfrm>
            <a:off x="380880" y="1600200"/>
            <a:ext cx="8334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ivot tab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500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ummarize data in understanding mann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95D3-39CD-4963-B9EF-7BE6B9D7A98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5" name="Table 7" descr=""/>
          <p:cNvPicPr/>
          <p:nvPr/>
        </p:nvPicPr>
        <p:blipFill>
          <a:blip r:embed="rId1"/>
          <a:stretch/>
        </p:blipFill>
        <p:spPr>
          <a:xfrm>
            <a:off x="1755720" y="2901960"/>
            <a:ext cx="41086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ivot tables (cont.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ab insert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ivot tabl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he ra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where to put the t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data of intere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g which to be in rows and which to be in colum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the calculation to be performed; Max, Average, etc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992D-E8E8-43F1-BB2D-0A75264639B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ookup tab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imes, we have a code that we want it to be replaced with a valu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FDEC-9D96-4A9D-A034-5149999D017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6" name="Table 6" descr=""/>
          <p:cNvPicPr/>
          <p:nvPr/>
        </p:nvPicPr>
        <p:blipFill>
          <a:blip r:embed="rId1"/>
          <a:stretch/>
        </p:blipFill>
        <p:spPr>
          <a:xfrm>
            <a:off x="5413320" y="3054240"/>
            <a:ext cx="951120" cy="1268640"/>
          </a:xfrm>
          <a:prstGeom prst="rect">
            <a:avLst/>
          </a:prstGeom>
          <a:ln w="0">
            <a:noFill/>
          </a:ln>
        </p:spPr>
      </p:pic>
      <p:pic>
        <p:nvPicPr>
          <p:cNvPr id="317" name="Table 8" descr=""/>
          <p:cNvPicPr/>
          <p:nvPr/>
        </p:nvPicPr>
        <p:blipFill>
          <a:blip r:embed="rId2"/>
          <a:stretch/>
        </p:blipFill>
        <p:spPr>
          <a:xfrm>
            <a:off x="2212920" y="3279600"/>
            <a:ext cx="1974960" cy="944640"/>
          </a:xfrm>
          <a:prstGeom prst="rect">
            <a:avLst/>
          </a:prstGeom>
          <a:ln w="0">
            <a:noFill/>
          </a:ln>
        </p:spPr>
      </p:pic>
      <p:sp>
        <p:nvSpPr>
          <p:cNvPr id="318" name="TextBox 9"/>
          <p:cNvSpPr/>
          <p:nvPr/>
        </p:nvSpPr>
        <p:spPr>
          <a:xfrm>
            <a:off x="1882440" y="510552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=LOOKUP(B4,F3:G7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Looku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93500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rching for a certain text, e.g. student I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B931-2123-4809-B293-6145E3CA09A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4" name="Table 6" descr=""/>
          <p:cNvPicPr/>
          <p:nvPr/>
        </p:nvPicPr>
        <p:blipFill>
          <a:blip r:embed="rId1"/>
          <a:stretch/>
        </p:blipFill>
        <p:spPr>
          <a:xfrm>
            <a:off x="1835280" y="2597040"/>
            <a:ext cx="1365120" cy="1133640"/>
          </a:xfrm>
          <a:prstGeom prst="rect">
            <a:avLst/>
          </a:prstGeom>
          <a:ln w="0">
            <a:noFill/>
          </a:ln>
        </p:spPr>
      </p:pic>
      <p:sp>
        <p:nvSpPr>
          <p:cNvPr id="325" name="TextBox 7"/>
          <p:cNvSpPr/>
          <p:nvPr/>
        </p:nvSpPr>
        <p:spPr>
          <a:xfrm>
            <a:off x="516240" y="4191120"/>
            <a:ext cx="540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e want to lookup student with Id 300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=VLOOKUP(3000,A5:B9,2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rmula: VLOOKUP(Value, table, column Index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ik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iki.ucalgary.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 science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3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CPSC_203_Template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CPSC 203 Lab Manual for Winter 2009 \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ki tutor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condu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 mater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34B9-4E79-47B8-A67B-4239143AC56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ustom Calcul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your own Functions using “=“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0BDD-FA8F-4A86-AAB3-7B72C8D7CFC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6" descr="custom1.gif"/>
          <p:cNvPicPr/>
          <p:nvPr/>
        </p:nvPicPr>
        <p:blipFill>
          <a:blip r:embed="rId1"/>
          <a:stretch/>
        </p:blipFill>
        <p:spPr>
          <a:xfrm>
            <a:off x="1066680" y="2514600"/>
            <a:ext cx="66693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Content Placeholder 6" descr="custom2.gif"/>
          <p:cNvPicPr/>
          <p:nvPr/>
        </p:nvPicPr>
        <p:blipFill>
          <a:blip r:embed="rId1"/>
          <a:stretch/>
        </p:blipFill>
        <p:spPr>
          <a:xfrm>
            <a:off x="838080" y="1981080"/>
            <a:ext cx="7315200" cy="3657600"/>
          </a:xfrm>
          <a:prstGeom prst="rect">
            <a:avLst/>
          </a:prstGeom>
          <a:ln w="0">
            <a:noFill/>
          </a:ln>
        </p:spPr>
      </p:pic>
      <p:sp>
        <p:nvSpPr>
          <p:cNvPr id="21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96E6-03AA-4E64-83B4-2F6CEBE61C3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Content Placeholder 6" descr="custom3.gif"/>
          <p:cNvPicPr/>
          <p:nvPr/>
        </p:nvPicPr>
        <p:blipFill>
          <a:blip r:embed="rId1"/>
          <a:stretch/>
        </p:blipFill>
        <p:spPr>
          <a:xfrm>
            <a:off x="914400" y="1981080"/>
            <a:ext cx="7315200" cy="3657600"/>
          </a:xfrm>
          <a:prstGeom prst="rect">
            <a:avLst/>
          </a:prstGeom>
          <a:ln w="0">
            <a:noFill/>
          </a:ln>
        </p:spPr>
      </p:pic>
      <p:sp>
        <p:nvSpPr>
          <p:cNvPr id="21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D7FC-5EE5-47F8-9E41-E08CD09B181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Content Placeholder 6" descr="custom4.gif"/>
          <p:cNvPicPr/>
          <p:nvPr/>
        </p:nvPicPr>
        <p:blipFill>
          <a:blip r:embed="rId1"/>
          <a:stretch/>
        </p:blipFill>
        <p:spPr>
          <a:xfrm>
            <a:off x="914400" y="2133720"/>
            <a:ext cx="7315200" cy="3657600"/>
          </a:xfrm>
          <a:prstGeom prst="rect">
            <a:avLst/>
          </a:prstGeom>
          <a:ln w="0">
            <a:noFill/>
          </a:ln>
        </p:spPr>
      </p:pic>
      <p:sp>
        <p:nvSpPr>
          <p:cNvPr id="22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D777-960A-43B9-9EE8-78261368E56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8" name="Content Placeholder 6" descr="custom5.gif"/>
          <p:cNvPicPr/>
          <p:nvPr/>
        </p:nvPicPr>
        <p:blipFill>
          <a:blip r:embed="rId1"/>
          <a:stretch/>
        </p:blipFill>
        <p:spPr>
          <a:xfrm>
            <a:off x="990720" y="1752480"/>
            <a:ext cx="7315200" cy="3657600"/>
          </a:xfrm>
          <a:prstGeom prst="rect">
            <a:avLst/>
          </a:prstGeom>
          <a:ln w="0">
            <a:noFill/>
          </a:ln>
        </p:spPr>
      </p:pic>
      <p:sp>
        <p:nvSpPr>
          <p:cNvPr id="22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3579-A725-401B-8DF1-553FA136216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/21/200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CPSC203- Week1- Lab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A13F-005E-4E69-9EDE-9BC029F9FE8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6" name="Picture 7" descr="custom7.gif"/>
          <p:cNvPicPr/>
          <p:nvPr/>
        </p:nvPicPr>
        <p:blipFill>
          <a:blip r:embed="rId1"/>
          <a:stretch/>
        </p:blipFill>
        <p:spPr>
          <a:xfrm>
            <a:off x="914400" y="182880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23:28Z</dcterms:created>
  <dc:creator>Dina</dc:creator>
  <dc:description/>
  <dc:language>en-US</dc:language>
  <cp:lastModifiedBy>dasaid</cp:lastModifiedBy>
  <dcterms:modified xsi:type="dcterms:W3CDTF">2009-01-21T19:42:58Z</dcterms:modified>
  <cp:revision>56</cp:revision>
  <dc:subject/>
  <dc:title>CPSC 203</dc:title>
</cp:coreProperties>
</file>